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D7AD3-92F9-42C4-95C3-3951746A5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2551C-D098-493C-B43A-6A19CF0E5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742C1-2AFB-42AC-AA09-B3B89CFC4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9D440-E34C-41D3-8C00-9332DBD37A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99635-C587-49CD-B8F4-0274F13BE5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F0D3E-73C2-48D3-8F1D-7A9A40270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07EE6-74BB-4DC5-B22E-BC57E8ABF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F4A5B-664A-4349-899D-06B854102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414000"/>
            <a:ext cx="878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BB035-6CF8-4F23-8E63-3709D3B98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ACAA2-4379-4FE6-A682-EFF5566C7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7BE5B-3FB7-4485-BA5E-DEE9F7DAF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E6810-DB5B-4792-934F-82D225D21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344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036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5671-E439-4BD4-AECD-CED0990D1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polyakov.narod.ru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hyperlink" Target="file:///Robot/robot.ex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hyperlink" Target="file:///Robot/robot.ex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hyperlink" Target="file:///Robot/robot.ex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hyperlink" Target="file:///Robot/robot.ex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hyperlink" Target="file:///Robot/robot.ex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hyperlink" Target="file:///Robot/robot.ex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" Target="slide2.xml"/><Relationship Id="rId5" Type="http://schemas.openxmlformats.org/officeDocument/2006/relationships/hyperlink" Target="file:///Robot/robot.exe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2.xml"/><Relationship Id="rId4" Type="http://schemas.openxmlformats.org/officeDocument/2006/relationships/hyperlink" Target="file:///Robot/robot.exe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hyperlink" Target="file:///Robot/robot.ex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Robot/robot.exe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8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Robot/robot.exe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Robot/robot.exe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.xml"/><Relationship Id="rId3" Type="http://schemas.openxmlformats.org/officeDocument/2006/relationships/hyperlink" Target="file:///Robot/robot.ex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" Target="slide2.xml"/><Relationship Id="rId8" Type="http://schemas.openxmlformats.org/officeDocument/2006/relationships/hyperlink" Target="file:///Robot/robot.exe" TargetMode="Externa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Robot/robot.exe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hyperlink" Target="file:///Robot/robot.ex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.xml"/><Relationship Id="rId3" Type="http://schemas.openxmlformats.org/officeDocument/2006/relationships/hyperlink" Target="file:///Robot/robot.ex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2.xml"/><Relationship Id="rId3" Type="http://schemas.openxmlformats.org/officeDocument/2006/relationships/hyperlink" Target="file:///Robot/robot.ex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hyperlink" Target="file:///Robot/robot.ex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Robot/robot.exe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hyperlink" Target="file:///Robot/robot.ex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Robot/robot.exe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Robot/robot.exe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Robot/robot.exe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hyperlink" Target="file:///Robot/robot.ex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Robot/robot.exe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hyperlink" Target="file:///Robot/robot.ex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Robot/robot.exe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Нижний колонтитул 3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Номер слайда 4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3487-A259-418B-9D3A-9281EAEFC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Исполнитель Робот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Применение системы «Исполнители»</a:t>
            </a:r>
            <a:br>
              <a:rPr sz="1400"/>
            </a:b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(К.Поляков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kpolyakov.narod.ru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при изучении раздела «Алгоритмика»</a:t>
            </a:r>
            <a:br>
              <a:rPr sz="1400"/>
            </a:b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пропедевтического курса Информатики и ИКТ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" name="Picture 5" descr="Рисунок1"/>
          <p:cNvPicPr/>
          <p:nvPr/>
        </p:nvPicPr>
        <p:blipFill>
          <a:blip r:embed="rId2"/>
          <a:stretch/>
        </p:blipFill>
        <p:spPr>
          <a:xfrm>
            <a:off x="3621240" y="2478240"/>
            <a:ext cx="1901520" cy="1901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23C5-5C79-419E-92C3-1DFBDD9EA8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5640" y="7920"/>
            <a:ext cx="878508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 алгоритма управления Роботом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4" name="Picture 3" descr="Рисунок5"/>
          <p:cNvPicPr/>
          <p:nvPr/>
        </p:nvPicPr>
        <p:blipFill>
          <a:blip r:embed="rId1"/>
          <a:stretch/>
        </p:blipFill>
        <p:spPr>
          <a:xfrm>
            <a:off x="4248000" y="2131920"/>
            <a:ext cx="4470480" cy="3444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792000" y="692280"/>
            <a:ext cx="75600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ь программу, после выполнения которой Робот посадит цветы в грядку в форме меандра из 4 витков и придет на Баз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132000" y="14112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спосо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0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1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2">
            <a:hlinkClick r:id="rId2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3" descr="Рисунок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131" name="Text Box 14"/>
          <p:cNvSpPr/>
          <p:nvPr/>
        </p:nvSpPr>
        <p:spPr>
          <a:xfrm>
            <a:off x="755640" y="2133720"/>
            <a:ext cx="302580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Меандр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повтори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4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ле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пра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пра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2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ле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5EB0-400A-4793-8197-84451FA35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5640" y="7920"/>
            <a:ext cx="878508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 алгоритма управления Роботом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" name="Picture 5" descr="Рисунок5"/>
          <p:cNvPicPr/>
          <p:nvPr/>
        </p:nvPicPr>
        <p:blipFill>
          <a:blip r:embed="rId1"/>
          <a:stretch/>
        </p:blipFill>
        <p:spPr>
          <a:xfrm>
            <a:off x="4248000" y="2168640"/>
            <a:ext cx="4470480" cy="3444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792000" y="692280"/>
            <a:ext cx="75600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ь программу, после выполнения которой Робот посадит цветы в грядку в форме меандра из 4 витков и придет на Баз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2087640" y="1411200"/>
            <a:ext cx="40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способ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использованием процедур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3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4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5">
            <a:hlinkClick r:id="rId2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6" descr="Рисунок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142" name="Text Box 17"/>
          <p:cNvSpPr/>
          <p:nvPr/>
        </p:nvSpPr>
        <p:spPr>
          <a:xfrm>
            <a:off x="755640" y="2168640"/>
            <a:ext cx="3025800" cy="430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Меандр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повтори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4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Виток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Вит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ле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пра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пра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2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ле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1C93-F65C-4491-BE56-AEC85DC2D7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8920" y="7920"/>
            <a:ext cx="88218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дача 1</a:t>
            </a:r>
            <a:r>
              <a:rPr b="1" lang="ru-RU" sz="3200" spc="-1" strike="noStrike">
                <a:solidFill>
                  <a:srgbClr val="29297b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000" spc="-1" strike="noStrike">
                <a:solidFill>
                  <a:srgbClr val="29297b"/>
                </a:solidFill>
                <a:latin typeface="Arial"/>
              </a:rPr>
              <a:t>(РТ №22 стр. 99, учебник №1 стр.148)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6" name="Picture 3" descr="Рисунок8"/>
          <p:cNvPicPr/>
          <p:nvPr/>
        </p:nvPicPr>
        <p:blipFill>
          <a:blip r:embed="rId1"/>
          <a:stretch/>
        </p:blipFill>
        <p:spPr>
          <a:xfrm>
            <a:off x="3492360" y="2602080"/>
            <a:ext cx="2073240" cy="15602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792000" y="1125360"/>
            <a:ext cx="75600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все алгоритмы из трех команд, которые переместят Робота из исходного положения на Баз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8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9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">
            <a:hlinkClick r:id="rId2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1" descr="Рисунок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4793-9C67-4331-9270-5C2002167D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7920"/>
            <a:ext cx="88218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дача 2</a:t>
            </a:r>
            <a:r>
              <a:rPr b="1" lang="ru-RU" sz="3200" spc="-1" strike="noStrike">
                <a:solidFill>
                  <a:srgbClr val="29297b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000" spc="-1" strike="noStrike">
                <a:solidFill>
                  <a:srgbClr val="29297b"/>
                </a:solidFill>
                <a:latin typeface="Arial"/>
              </a:rPr>
              <a:t>(РТ №23 стр. 99, учебник №4 стр.148)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431640" y="1116000"/>
            <a:ext cx="81360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а придумала лабиринт для Робота. Коля стёр ровно половину клеток с грядками. Восстановите рисунок (он симметричен относительно вертикальной оси). Напишите программу для Робо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Рисунок10"/>
          <p:cNvPicPr/>
          <p:nvPr/>
        </p:nvPicPr>
        <p:blipFill>
          <a:blip r:embed="rId1"/>
          <a:stretch/>
        </p:blipFill>
        <p:spPr>
          <a:xfrm>
            <a:off x="3348000" y="2592360"/>
            <a:ext cx="2067120" cy="2060640"/>
          </a:xfrm>
          <a:prstGeom prst="rect">
            <a:avLst/>
          </a:prstGeom>
          <a:ln w="0">
            <a:noFill/>
          </a:ln>
        </p:spPr>
      </p:pic>
      <p:sp>
        <p:nvSpPr>
          <p:cNvPr id="157" name="Line 5"/>
          <p:cNvSpPr/>
          <p:nvPr/>
        </p:nvSpPr>
        <p:spPr>
          <a:xfrm>
            <a:off x="4392720" y="2205000"/>
            <a:ext cx="0" cy="2808360"/>
          </a:xfrm>
          <a:prstGeom prst="line">
            <a:avLst/>
          </a:prstGeom>
          <a:ln w="19080">
            <a:solidFill>
              <a:srgbClr val="0000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9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0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1">
            <a:hlinkClick r:id="rId2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2" descr="Рисунок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A249-527B-48D9-833F-C48BF59A93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8920" y="7920"/>
            <a:ext cx="88218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дача 3</a:t>
            </a:r>
            <a:r>
              <a:rPr b="1" lang="ru-RU" sz="3200" spc="-1" strike="noStrike">
                <a:solidFill>
                  <a:srgbClr val="29297b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000" spc="-1" strike="noStrike">
                <a:solidFill>
                  <a:srgbClr val="29297b"/>
                </a:solidFill>
                <a:latin typeface="Arial"/>
              </a:rPr>
              <a:t>(РТ №25 стр. 100, учебник №6 стр.149)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31640" y="1136520"/>
            <a:ext cx="81360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ишите программу, с помощью которой Робот пройдет по лабиринту и попадет на Базу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9" descr="Рисунок11"/>
          <p:cNvPicPr/>
          <p:nvPr/>
        </p:nvPicPr>
        <p:blipFill>
          <a:blip r:embed="rId1"/>
          <a:stretch/>
        </p:blipFill>
        <p:spPr>
          <a:xfrm>
            <a:off x="1042920" y="2325600"/>
            <a:ext cx="7166160" cy="19321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13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4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15">
            <a:hlinkClick r:id="rId2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6" descr="Рисунок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03F6-D59F-4ED4-B9DE-F26347473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-27000"/>
            <a:ext cx="88218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ктическая работа</a:t>
            </a:r>
            <a:r>
              <a:rPr b="1" lang="ru-RU" sz="3200" spc="-1" strike="noStrike">
                <a:solidFill>
                  <a:srgbClr val="29297b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000" spc="-1" strike="noStrike">
                <a:solidFill>
                  <a:srgbClr val="29297b"/>
                </a:solidFill>
                <a:latin typeface="Arial"/>
              </a:rPr>
              <a:t>(РТ №27(а) стр. 103, учебник №8(а) стр.149)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95280" y="944640"/>
            <a:ext cx="81360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ишите программу, с помощью которой Робот посадит цветы на грядках в соответствии с рисунком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4" descr="Рисунок13"/>
          <p:cNvPicPr/>
          <p:nvPr/>
        </p:nvPicPr>
        <p:blipFill>
          <a:blip r:embed="rId1"/>
          <a:stretch/>
        </p:blipFill>
        <p:spPr>
          <a:xfrm>
            <a:off x="4103640" y="1628640"/>
            <a:ext cx="4390920" cy="439128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9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10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1">
            <a:hlinkClick r:id="rId2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2" descr="Рисунок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180" name="Text Box 13"/>
          <p:cNvSpPr/>
          <p:nvPr/>
        </p:nvSpPr>
        <p:spPr>
          <a:xfrm>
            <a:off x="684360" y="1628640"/>
            <a:ext cx="3025800" cy="48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РТ27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повтори ( </a:t>
            </a:r>
            <a:r>
              <a:rPr b="1" lang="ru-RU" sz="1300" spc="-1" strike="noStrike">
                <a:solidFill>
                  <a:srgbClr val="0000cc"/>
                </a:solidFill>
                <a:latin typeface="Courier New"/>
              </a:rPr>
              <a:t>3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Угол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направо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;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300" spc="-1" strike="noStrike">
                <a:solidFill>
                  <a:srgbClr val="0000cc"/>
                </a:solidFill>
                <a:latin typeface="Courier New"/>
              </a:rPr>
              <a:t>2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направо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;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300" spc="-1" strike="noStrike">
                <a:solidFill>
                  <a:srgbClr val="0000cc"/>
                </a:solidFill>
                <a:latin typeface="Courier New"/>
              </a:rPr>
              <a:t>2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направо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3333ff"/>
                </a:solidFill>
                <a:latin typeface="Courier New"/>
              </a:rPr>
              <a:t>} 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Угол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назад 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300" spc="-1" strike="noStrike">
                <a:solidFill>
                  <a:srgbClr val="0000cc"/>
                </a:solidFill>
                <a:latin typeface="Courier New"/>
              </a:rPr>
              <a:t>4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3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3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3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3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направо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3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3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3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3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E875-3A99-4A62-BC5D-4C3084F6A0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8920" y="7560"/>
            <a:ext cx="8821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r>
              <a:rPr b="1" lang="ru-RU" sz="3200" spc="-1" strike="noStrike">
                <a:solidFill>
                  <a:srgbClr val="29297b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84360" y="584280"/>
            <a:ext cx="781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3 стр. 135-1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Т №24 стр. 100, учебник №5 стр. 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10"/>
          <p:cNvGrpSpPr/>
          <p:nvPr/>
        </p:nvGrpSpPr>
        <p:grpSpPr>
          <a:xfrm>
            <a:off x="900000" y="2492280"/>
            <a:ext cx="7269120" cy="2763360"/>
            <a:chOff x="900000" y="2492280"/>
            <a:chExt cx="7269120" cy="2763360"/>
          </a:xfrm>
        </p:grpSpPr>
        <p:pic>
          <p:nvPicPr>
            <p:cNvPr id="186" name="Picture 4" descr="Рисунок16"/>
            <p:cNvPicPr/>
            <p:nvPr/>
          </p:nvPicPr>
          <p:blipFill>
            <a:blip r:embed="rId1"/>
            <a:stretch/>
          </p:blipFill>
          <p:spPr>
            <a:xfrm>
              <a:off x="900000" y="2492280"/>
              <a:ext cx="2194200" cy="21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5" descr="Рисунок17"/>
            <p:cNvPicPr/>
            <p:nvPr/>
          </p:nvPicPr>
          <p:blipFill>
            <a:blip r:embed="rId2"/>
            <a:stretch/>
          </p:blipFill>
          <p:spPr>
            <a:xfrm>
              <a:off x="3456000" y="2492280"/>
              <a:ext cx="2190600" cy="219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6" descr="Рисунок18"/>
            <p:cNvPicPr/>
            <p:nvPr/>
          </p:nvPicPr>
          <p:blipFill>
            <a:blip r:embed="rId3"/>
            <a:stretch/>
          </p:blipFill>
          <p:spPr>
            <a:xfrm>
              <a:off x="5977080" y="2492280"/>
              <a:ext cx="2192040" cy="21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7"/>
            <p:cNvSpPr/>
            <p:nvPr/>
          </p:nvSpPr>
          <p:spPr>
            <a:xfrm>
              <a:off x="1832040" y="47959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8"/>
            <p:cNvSpPr/>
            <p:nvPr/>
          </p:nvSpPr>
          <p:spPr>
            <a:xfrm>
              <a:off x="4352760" y="47959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б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9"/>
            <p:cNvSpPr/>
            <p:nvPr/>
          </p:nvSpPr>
          <p:spPr>
            <a:xfrm>
              <a:off x="6908760" y="47959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Text Box 11"/>
          <p:cNvSpPr/>
          <p:nvPr/>
        </p:nvSpPr>
        <p:spPr>
          <a:xfrm>
            <a:off x="503280" y="1663560"/>
            <a:ext cx="81360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ишите программу, с помощью которой Робот сможет попасть на Базу во всех трех лабиринта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5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6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7">
            <a:hlinkClick r:id="rId4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8" descr="Рисунок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0600-DC35-473B-BFA7-BD138D2000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7560"/>
            <a:ext cx="8821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полнительное домашнее задание</a:t>
            </a:r>
            <a:r>
              <a:rPr b="1" lang="ru-RU" sz="3200" spc="-1" strike="noStrike">
                <a:solidFill>
                  <a:srgbClr val="29297b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655640" y="584280"/>
            <a:ext cx="60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Т №27 стр. 103, учебник №8 стр. 1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2268360" y="4940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6372360" y="49039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14" descr="Рисунок19"/>
          <p:cNvPicPr/>
          <p:nvPr/>
        </p:nvPicPr>
        <p:blipFill>
          <a:blip r:embed="rId1"/>
          <a:stretch/>
        </p:blipFill>
        <p:spPr>
          <a:xfrm>
            <a:off x="863640" y="1231920"/>
            <a:ext cx="3495600" cy="3495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Рисунок20"/>
          <p:cNvPicPr/>
          <p:nvPr/>
        </p:nvPicPr>
        <p:blipFill>
          <a:blip r:embed="rId2"/>
          <a:stretch/>
        </p:blipFill>
        <p:spPr>
          <a:xfrm>
            <a:off x="4967280" y="1231920"/>
            <a:ext cx="3492360" cy="34894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9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20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21">
            <a:hlinkClick r:id="rId3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22" descr="Рисунок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3342-DDDE-48EE-A368-B59337D11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775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7b"/>
                </a:solidFill>
                <a:latin typeface="Arial"/>
              </a:rPr>
              <a:t>2. Исполнитель Робот </a:t>
            </a:r>
            <a:br>
              <a:rPr sz="3200"/>
            </a:br>
            <a:r>
              <a:rPr b="1" lang="ru-RU" sz="3200" spc="-1" strike="noStrike">
                <a:solidFill>
                  <a:srgbClr val="29297b"/>
                </a:solidFill>
                <a:latin typeface="Arial"/>
              </a:rPr>
              <a:t>Цикл «Пока»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2" name="Picture 3" descr="11_813"/>
          <p:cNvPicPr/>
          <p:nvPr/>
        </p:nvPicPr>
        <p:blipFill>
          <a:blip r:embed="rId1"/>
          <a:stretch/>
        </p:blipFill>
        <p:spPr>
          <a:xfrm>
            <a:off x="3635280" y="3068640"/>
            <a:ext cx="2005200" cy="220680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3" name="AutoShape 7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8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9">
            <a:hlinkClick r:id="rId2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10" descr="Рисунок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ижний колонтитул 1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8CFF-A465-459E-9E33-0EC2546FE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539640" y="657360"/>
            <a:ext cx="8101080" cy="5444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формальный исполнитель – это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неформальных исполнителей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льный исполнитель – это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формальных исполн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исполнителя Робота по план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И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2) Круг решаемых задач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3) Сред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4) С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5) Система отказ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6) Режимы раб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179280" y="0"/>
            <a:ext cx="8785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вайте вспомн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2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3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4">
            <a:hlinkClick r:id="rId1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5" descr="Рисунок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ижний колонтитул 1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2B60-E518-41A8-8E67-7E0076081F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84360" y="1665360"/>
            <a:ext cx="7991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Исполнитель Робот. Управление Роботом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Исполнитель Робот. Цикл «По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Исполнитель Робот. Ветв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ижний колонтитул 3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Номер слайда 4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B941-94A4-4961-A1D3-EC4B27C29B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2560" y="7560"/>
            <a:ext cx="87850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горитмы с обратной связью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87280" y="549360"/>
            <a:ext cx="849780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обот может получать информацию об окружающей обстановке с помощью датчиков, которые выдают ответ "Да" или "Нет" ("истинно" или "ложно") на вопросы-команд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обот может проверять следующие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простые условия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95280" y="1449360"/>
          <a:ext cx="8317080" cy="4479840"/>
        </p:xfrm>
        <a:graphic>
          <a:graphicData uri="http://schemas.openxmlformats.org/drawingml/2006/table">
            <a:tbl>
              <a:tblPr/>
              <a:tblGrid>
                <a:gridCol w="2376360"/>
                <a:gridCol w="5940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лева_ст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права_ст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впереди_ст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зади_ст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эти команды определяют, есть ли стена в ближайшей клетке в указанном направл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лева_клумб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права_клум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впереди_клум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зади_клум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эти команды определяют, есть ли клумба в соседней клетке в указанном направл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лева_свобод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права_свобод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впереди_свобод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зади_свобод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эти команды определяют, свободна ли ближайшая клетка в указанном направлени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Робот получает ответ "Да", если там нет стены и нет клумб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гряд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клум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б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эти команды определяют, является ли клетка, в которой стоит Робот, грядкой клумбой или Баз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0" name="AutoShape 83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84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85">
            <a:hlinkClick r:id="rId1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6" descr="Рисунок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B4F9-94BB-46E3-B236-EC443C9518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5640" y="7560"/>
            <a:ext cx="87850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икл «Пока»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627280" y="677880"/>
            <a:ext cx="374328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urier New"/>
              </a:rPr>
              <a:t>пока 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ff33cc"/>
                </a:solidFill>
                <a:latin typeface="Courier New"/>
              </a:rPr>
              <a:t>условие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команды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5"/>
          <p:cNvGrpSpPr/>
          <p:nvPr/>
        </p:nvGrpSpPr>
        <p:grpSpPr>
          <a:xfrm>
            <a:off x="2879640" y="2585880"/>
            <a:ext cx="3492720" cy="3111480"/>
            <a:chOff x="2879640" y="2585880"/>
            <a:chExt cx="3492720" cy="3111480"/>
          </a:xfrm>
        </p:grpSpPr>
        <p:sp>
          <p:nvSpPr>
            <p:cNvPr id="239" name="AutoShape 6"/>
            <p:cNvSpPr/>
            <p:nvPr/>
          </p:nvSpPr>
          <p:spPr>
            <a:xfrm>
              <a:off x="3421080" y="2981160"/>
              <a:ext cx="2160720" cy="82872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слов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7"/>
            <p:cNvSpPr/>
            <p:nvPr/>
          </p:nvSpPr>
          <p:spPr>
            <a:xfrm>
              <a:off x="4500720" y="258588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8"/>
            <p:cNvSpPr/>
            <p:nvPr/>
          </p:nvSpPr>
          <p:spPr>
            <a:xfrm>
              <a:off x="4500720" y="380988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9"/>
            <p:cNvSpPr/>
            <p:nvPr/>
          </p:nvSpPr>
          <p:spPr>
            <a:xfrm>
              <a:off x="3348000" y="4168800"/>
              <a:ext cx="2340000" cy="75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манд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тело цикла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2879640" y="2765520"/>
              <a:ext cx="1621080" cy="24127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4464000" y="3394080"/>
              <a:ext cx="1692360" cy="23032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12"/>
            <p:cNvSpPr/>
            <p:nvPr/>
          </p:nvSpPr>
          <p:spPr>
            <a:xfrm>
              <a:off x="4464000" y="373680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5545080" y="3052800"/>
              <a:ext cx="8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AutoShape 19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20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21">
            <a:hlinkClick r:id="rId1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22" descr="Рисунок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8879-7EBD-4D22-A546-D053532610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2560" y="7920"/>
            <a:ext cx="878508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 задачи с циклом «пока»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92000" y="692280"/>
            <a:ext cx="75600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ь программу, после выполнения которой Робот посадит цветы в прямолинейную грядку неизвестной длины до стены и вернется на Баз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6" descr="Рисунок21"/>
          <p:cNvPicPr/>
          <p:nvPr/>
        </p:nvPicPr>
        <p:blipFill>
          <a:blip r:embed="rId1"/>
          <a:stretch/>
        </p:blipFill>
        <p:spPr>
          <a:xfrm>
            <a:off x="3786120" y="1952640"/>
            <a:ext cx="4926240" cy="329580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11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12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13">
            <a:hlinkClick r:id="rId2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4" descr="Рисунок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260" name="Text Box 15"/>
          <p:cNvSpPr/>
          <p:nvPr/>
        </p:nvSpPr>
        <p:spPr>
          <a:xfrm>
            <a:off x="395280" y="1952640"/>
            <a:ext cx="3240000" cy="416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Длинная_клум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пока ( </a:t>
            </a:r>
            <a:r>
              <a:rPr b="1" lang="ru-RU" sz="1400" spc="-1" strike="noStrike">
                <a:solidFill>
                  <a:srgbClr val="ff33cc"/>
                </a:solidFill>
                <a:latin typeface="Courier New"/>
              </a:rPr>
              <a:t>впереди_свободн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ле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ле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пока ( </a:t>
            </a:r>
            <a:r>
              <a:rPr b="1" lang="ru-RU" sz="1400" spc="-1" strike="noStrike">
                <a:solidFill>
                  <a:srgbClr val="ff33cc"/>
                </a:solidFill>
                <a:latin typeface="Courier New"/>
              </a:rPr>
              <a:t>слева_клумба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ле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7758-D048-44B7-8DE4-8BE93340BB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9280" y="7920"/>
            <a:ext cx="8785440" cy="3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ы ошибок в циклах «пока»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4" name="Group 11"/>
          <p:cNvGrpSpPr/>
          <p:nvPr/>
        </p:nvGrpSpPr>
        <p:grpSpPr>
          <a:xfrm>
            <a:off x="407880" y="800280"/>
            <a:ext cx="8267400" cy="3779640"/>
            <a:chOff x="407880" y="800280"/>
            <a:chExt cx="8267400" cy="3779640"/>
          </a:xfrm>
        </p:grpSpPr>
        <p:pic>
          <p:nvPicPr>
            <p:cNvPr id="265" name="Picture 5" descr="Рисунок23"/>
            <p:cNvPicPr/>
            <p:nvPr/>
          </p:nvPicPr>
          <p:blipFill>
            <a:blip r:embed="rId1"/>
            <a:stretch/>
          </p:blipFill>
          <p:spPr>
            <a:xfrm>
              <a:off x="875880" y="1590840"/>
              <a:ext cx="1403640" cy="13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6" descr="Рисунок24"/>
            <p:cNvPicPr/>
            <p:nvPr/>
          </p:nvPicPr>
          <p:blipFill>
            <a:blip r:embed="rId2"/>
            <a:stretch/>
          </p:blipFill>
          <p:spPr>
            <a:xfrm>
              <a:off x="407880" y="3187800"/>
              <a:ext cx="230328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7" descr="Рисунок25"/>
            <p:cNvPicPr/>
            <p:nvPr/>
          </p:nvPicPr>
          <p:blipFill>
            <a:blip r:embed="rId3"/>
            <a:stretch/>
          </p:blipFill>
          <p:spPr>
            <a:xfrm>
              <a:off x="5916240" y="800280"/>
              <a:ext cx="2652840" cy="22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" descr="Рисунок26"/>
            <p:cNvPicPr/>
            <p:nvPr/>
          </p:nvPicPr>
          <p:blipFill>
            <a:blip r:embed="rId4"/>
            <a:stretch/>
          </p:blipFill>
          <p:spPr>
            <a:xfrm>
              <a:off x="5879880" y="3187800"/>
              <a:ext cx="2795400" cy="13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9" descr="Рисунок27"/>
            <p:cNvPicPr/>
            <p:nvPr/>
          </p:nvPicPr>
          <p:blipFill>
            <a:blip r:embed="rId5"/>
            <a:stretch/>
          </p:blipFill>
          <p:spPr>
            <a:xfrm>
              <a:off x="3431880" y="1627200"/>
              <a:ext cx="178596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10" descr="Рисунок28"/>
            <p:cNvPicPr/>
            <p:nvPr/>
          </p:nvPicPr>
          <p:blipFill>
            <a:blip r:embed="rId6"/>
            <a:stretch/>
          </p:blipFill>
          <p:spPr>
            <a:xfrm>
              <a:off x="3143160" y="3187800"/>
              <a:ext cx="2317680" cy="13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AutoShape 15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16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17">
            <a:hlinkClick r:id="rId7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18" descr="Рисунок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F28D-2FD8-43F3-84C5-7AD7E855E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280" y="7560"/>
            <a:ext cx="878544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ставные условия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250920" y="620640"/>
            <a:ext cx="871200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ные условия образуются из простых условий добавлением логических операций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усть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cc"/>
                </a:solidFill>
                <a:latin typeface="Courier New"/>
              </a:rPr>
              <a:t>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cc"/>
                </a:solidFill>
                <a:latin typeface="Courier New"/>
              </a:rPr>
              <a:t>В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– простые услов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ное условие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</a:rPr>
              <a:t>(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cc"/>
                </a:solidFill>
                <a:latin typeface="Courier New"/>
              </a:rPr>
              <a:t>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</a:rPr>
              <a:t>и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cc"/>
                </a:solidFill>
                <a:latin typeface="Courier New"/>
              </a:rPr>
              <a:t>В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</a:rPr>
              <a:t>)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удет выполняться только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огда, когда выполняются каждое из простых усло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ное условие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</a:rPr>
              <a:t>(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cc"/>
                </a:solidFill>
                <a:latin typeface="Courier New"/>
              </a:rPr>
              <a:t>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</a:rPr>
              <a:t>или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cc"/>
                </a:solidFill>
                <a:latin typeface="Courier New"/>
              </a:rPr>
              <a:t>В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</a:rPr>
              <a:t>)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удет выполняться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огда, когда выполняется хотя бы одно из простых усло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ное условие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</a:rPr>
              <a:t>(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</a:rPr>
              <a:t>не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cc"/>
                </a:solidFill>
                <a:latin typeface="Courier New"/>
              </a:rPr>
              <a:t>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</a:rPr>
              <a:t>)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удет выполняться, когда не выполняется  простое условие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cc"/>
                </a:solidFill>
                <a:latin typeface="Courier New"/>
              </a:rPr>
              <a:t>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10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11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12">
            <a:hlinkClick r:id="rId1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13" descr="Рисунок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4BE8-2D98-4CAB-9C59-03D125643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2560" y="7920"/>
            <a:ext cx="878508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ческая работа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792000" y="1125360"/>
            <a:ext cx="75600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ь программу, после выполнения которой Робот посадит цветы в прямом коридоре неизвестной длины и вернется на Баз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6" descr="Рисунок29"/>
          <p:cNvPicPr/>
          <p:nvPr/>
        </p:nvPicPr>
        <p:blipFill>
          <a:blip r:embed="rId1"/>
          <a:stretch/>
        </p:blipFill>
        <p:spPr>
          <a:xfrm>
            <a:off x="4589640" y="2071800"/>
            <a:ext cx="4303440" cy="25178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8"/>
          <p:cNvSpPr/>
          <p:nvPr/>
        </p:nvSpPr>
        <p:spPr>
          <a:xfrm>
            <a:off x="3527280" y="585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Пример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14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5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16">
            <a:hlinkClick r:id="rId2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17" descr="Рисунок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293" name="Text Box 18"/>
          <p:cNvSpPr/>
          <p:nvPr/>
        </p:nvSpPr>
        <p:spPr>
          <a:xfrm>
            <a:off x="287280" y="2060640"/>
            <a:ext cx="4140360" cy="41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Клумба_в_коридор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пока ( </a:t>
            </a:r>
            <a:r>
              <a:rPr b="1" lang="ru-RU" sz="1400" spc="-1" strike="noStrike">
                <a:solidFill>
                  <a:srgbClr val="ff33cc"/>
                </a:solidFill>
                <a:latin typeface="Courier New"/>
              </a:rPr>
              <a:t>слева_стена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и</a:t>
            </a:r>
            <a:r>
              <a:rPr b="1" lang="ru-RU" sz="1400" spc="-1" strike="noStrike">
                <a:solidFill>
                  <a:srgbClr val="ff33cc"/>
                </a:solidFill>
                <a:latin typeface="Courier New"/>
              </a:rPr>
              <a:t> справа_стена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ле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2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ле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пока ( </a:t>
            </a:r>
            <a:r>
              <a:rPr b="1" lang="ru-RU" sz="1400" spc="-1" strike="noStrike">
                <a:solidFill>
                  <a:srgbClr val="ff33cc"/>
                </a:solidFill>
                <a:latin typeface="Courier New"/>
              </a:rPr>
              <a:t>слева_стена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ле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2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B41F-C8DB-47DF-B0CC-4DA15F341F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2560" y="7920"/>
            <a:ext cx="878508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ческая работа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539640" y="1125360"/>
            <a:ext cx="806472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ь программу, после выполнения которой Робот посадит цветы в прямом коридоре с проходами неизвестной длины и вернется на Баз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527280" y="585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Пример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7" descr="Рисунок31"/>
          <p:cNvPicPr/>
          <p:nvPr/>
        </p:nvPicPr>
        <p:blipFill>
          <a:blip r:embed="rId1"/>
          <a:stretch/>
        </p:blipFill>
        <p:spPr>
          <a:xfrm>
            <a:off x="4680000" y="2060640"/>
            <a:ext cx="4176720" cy="2413080"/>
          </a:xfrm>
          <a:prstGeom prst="rect">
            <a:avLst/>
          </a:prstGeom>
          <a:ln w="0">
            <a:noFill/>
          </a:ln>
        </p:spPr>
      </p:pic>
      <p:sp>
        <p:nvSpPr>
          <p:cNvPr id="300" name="AutoShape 12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3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14">
            <a:hlinkClick r:id="rId2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15" descr="Рисунок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304" name="Text Box 16"/>
          <p:cNvSpPr/>
          <p:nvPr/>
        </p:nvSpPr>
        <p:spPr>
          <a:xfrm>
            <a:off x="287280" y="2060640"/>
            <a:ext cx="4248360" cy="309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Клумба_в_коридоре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пока ( </a:t>
            </a:r>
            <a:r>
              <a:rPr b="1" lang="ru-RU" sz="1400" spc="-1" strike="noStrike">
                <a:solidFill>
                  <a:srgbClr val="ff33cc"/>
                </a:solidFill>
                <a:latin typeface="Courier New"/>
              </a:rPr>
              <a:t>слева_стена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или</a:t>
            </a:r>
            <a:r>
              <a:rPr b="1" lang="ru-RU" sz="1400" spc="-1" strike="noStrike">
                <a:solidFill>
                  <a:srgbClr val="ff33cc"/>
                </a:solidFill>
                <a:latin typeface="Courier New"/>
              </a:rPr>
              <a:t> справа_стена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ле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2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ле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пока ( не </a:t>
            </a:r>
            <a:r>
              <a:rPr b="1" lang="ru-RU" sz="1400" spc="-1" strike="noStrike">
                <a:solidFill>
                  <a:srgbClr val="ff33cc"/>
                </a:solidFill>
                <a:latin typeface="Courier New"/>
              </a:rPr>
              <a:t>база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8A8F-5222-48B8-A2F8-A77DCB5AC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8920" y="7560"/>
            <a:ext cx="8821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r>
              <a:rPr b="1" lang="ru-RU" sz="3200" spc="-1" strike="noStrike">
                <a:solidFill>
                  <a:srgbClr val="29297b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684360" y="657360"/>
            <a:ext cx="781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3 стр. 137-1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Т №30 стр. 105, учебник №10 стр.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10" descr="Рисунок33"/>
          <p:cNvPicPr/>
          <p:nvPr/>
        </p:nvPicPr>
        <p:blipFill>
          <a:blip r:embed="rId1"/>
          <a:stretch/>
        </p:blipFill>
        <p:spPr>
          <a:xfrm>
            <a:off x="2016000" y="2529000"/>
            <a:ext cx="5114880" cy="25714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1"/>
          <p:cNvSpPr/>
          <p:nvPr/>
        </p:nvSpPr>
        <p:spPr>
          <a:xfrm>
            <a:off x="503280" y="1701720"/>
            <a:ext cx="81360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ишите программу, с помощью которой Робот посадит цветы в грядке до уже посаженной клумбы и вернется в исходное полож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15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16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17">
            <a:hlinkClick r:id="rId2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18" descr="Рисунок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5CC1-E89C-4B3A-ACFD-331DBCFAC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775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7b"/>
                </a:solidFill>
                <a:latin typeface="Arial"/>
              </a:rPr>
              <a:t>3. Исполнитель Робот </a:t>
            </a:r>
            <a:br>
              <a:rPr sz="3200"/>
            </a:br>
            <a:r>
              <a:rPr b="1" lang="ru-RU" sz="3200" spc="-1" strike="noStrike">
                <a:solidFill>
                  <a:srgbClr val="29297b"/>
                </a:solidFill>
                <a:latin typeface="Arial"/>
              </a:rPr>
              <a:t>Ветвление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8" name="Picture 3" descr="11_813"/>
          <p:cNvPicPr/>
          <p:nvPr/>
        </p:nvPicPr>
        <p:blipFill>
          <a:blip r:embed="rId1"/>
          <a:stretch/>
        </p:blipFill>
        <p:spPr>
          <a:xfrm>
            <a:off x="3635280" y="3068640"/>
            <a:ext cx="2005200" cy="220680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19" name="AutoShape 7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utoShape 8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9">
            <a:hlinkClick r:id="rId2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10" descr="Рисунок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ижний колонтитул 1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ACA6-D2D9-46F7-8DFE-A3E7881A89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503280" y="728640"/>
            <a:ext cx="8101080" cy="49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ейный алгоритм – это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твляющийся алгоритм – это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ический алгоритм – это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исполнителя Робота по план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И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2) Круг решаемых задач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3) Сред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4) С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5) Система отказ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6) Режимы раб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179280" y="0"/>
            <a:ext cx="8785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вайте вспомн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10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11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12">
            <a:hlinkClick r:id="rId1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13" descr="Рисунок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3C90-C0FB-42BD-BA3E-1CF1B24476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775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7b"/>
                </a:solidFill>
                <a:latin typeface="Arial"/>
              </a:rPr>
              <a:t>1. Исполнитель Робот </a:t>
            </a:r>
            <a:br>
              <a:rPr sz="3200"/>
            </a:br>
            <a:r>
              <a:rPr b="1" lang="ru-RU" sz="3200" spc="-1" strike="noStrike">
                <a:solidFill>
                  <a:srgbClr val="29297b"/>
                </a:solidFill>
                <a:latin typeface="Arial"/>
              </a:rPr>
              <a:t>Управление Роботом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" name="Picture 4" descr="11_813"/>
          <p:cNvPicPr/>
          <p:nvPr/>
        </p:nvPicPr>
        <p:blipFill>
          <a:blip r:embed="rId1"/>
          <a:stretch/>
        </p:blipFill>
        <p:spPr>
          <a:xfrm>
            <a:off x="3635280" y="3068640"/>
            <a:ext cx="2005200" cy="220680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2" name="AutoShape 8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9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">
            <a:hlinkClick r:id="rId2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Рисунок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0168-AF30-4016-A37B-88B4E22B75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5640" y="7560"/>
            <a:ext cx="87850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ная форма ветвления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684360" y="873000"/>
            <a:ext cx="374328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urier New"/>
              </a:rPr>
              <a:t>если 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ff33cc"/>
                </a:solidFill>
                <a:latin typeface="Courier New"/>
              </a:rPr>
              <a:t>условие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команды1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urier New"/>
              </a:rPr>
              <a:t>инач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команды2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Group 18"/>
          <p:cNvGrpSpPr/>
          <p:nvPr/>
        </p:nvGrpSpPr>
        <p:grpSpPr>
          <a:xfrm>
            <a:off x="4932360" y="944640"/>
            <a:ext cx="3564000" cy="2736360"/>
            <a:chOff x="4932360" y="944640"/>
            <a:chExt cx="3564000" cy="2736360"/>
          </a:xfrm>
        </p:grpSpPr>
        <p:sp>
          <p:nvSpPr>
            <p:cNvPr id="336" name="AutoShape 5"/>
            <p:cNvSpPr/>
            <p:nvPr/>
          </p:nvSpPr>
          <p:spPr>
            <a:xfrm>
              <a:off x="4932360" y="1339560"/>
              <a:ext cx="2160720" cy="82836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слов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6"/>
            <p:cNvSpPr/>
            <p:nvPr/>
          </p:nvSpPr>
          <p:spPr>
            <a:xfrm>
              <a:off x="6012000" y="944640"/>
              <a:ext cx="0" cy="39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7"/>
            <p:cNvSpPr/>
            <p:nvPr/>
          </p:nvSpPr>
          <p:spPr>
            <a:xfrm>
              <a:off x="6012000" y="2168280"/>
              <a:ext cx="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8"/>
            <p:cNvSpPr/>
            <p:nvPr/>
          </p:nvSpPr>
          <p:spPr>
            <a:xfrm>
              <a:off x="5256360" y="2527200"/>
              <a:ext cx="1476360" cy="433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манды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1"/>
            <p:cNvSpPr/>
            <p:nvPr/>
          </p:nvSpPr>
          <p:spPr>
            <a:xfrm>
              <a:off x="5975280" y="209520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"/>
            <p:cNvSpPr/>
            <p:nvPr/>
          </p:nvSpPr>
          <p:spPr>
            <a:xfrm>
              <a:off x="7056360" y="1411200"/>
              <a:ext cx="8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020000" y="2528640"/>
              <a:ext cx="1476360" cy="433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манды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14"/>
            <p:cNvSpPr/>
            <p:nvPr/>
          </p:nvSpPr>
          <p:spPr>
            <a:xfrm>
              <a:off x="7104240" y="1752480"/>
              <a:ext cx="647640" cy="7916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6012000" y="2960640"/>
              <a:ext cx="0" cy="72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17"/>
            <p:cNvSpPr/>
            <p:nvPr/>
          </p:nvSpPr>
          <p:spPr>
            <a:xfrm>
              <a:off x="6012000" y="2960640"/>
              <a:ext cx="1728720" cy="2520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AutoShape 22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23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24">
            <a:hlinkClick r:id="rId1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25" descr="Рисунок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A836-E197-4C63-8224-61BEE78719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5640" y="7560"/>
            <a:ext cx="87850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аткая форма ветвления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647640" y="1015920"/>
            <a:ext cx="374328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urier New"/>
              </a:rPr>
              <a:t>если 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ff33cc"/>
                </a:solidFill>
                <a:latin typeface="Courier New"/>
              </a:rPr>
              <a:t>условие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команды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16"/>
          <p:cNvGrpSpPr/>
          <p:nvPr/>
        </p:nvGrpSpPr>
        <p:grpSpPr>
          <a:xfrm>
            <a:off x="5219640" y="944640"/>
            <a:ext cx="2951280" cy="2736720"/>
            <a:chOff x="5219640" y="944640"/>
            <a:chExt cx="2951280" cy="2736720"/>
          </a:xfrm>
        </p:grpSpPr>
        <p:sp>
          <p:nvSpPr>
            <p:cNvPr id="355" name="AutoShape 5"/>
            <p:cNvSpPr/>
            <p:nvPr/>
          </p:nvSpPr>
          <p:spPr>
            <a:xfrm>
              <a:off x="5219640" y="1339920"/>
              <a:ext cx="2160720" cy="82872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слов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6"/>
            <p:cNvSpPr/>
            <p:nvPr/>
          </p:nvSpPr>
          <p:spPr>
            <a:xfrm>
              <a:off x="6299280" y="9446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7"/>
            <p:cNvSpPr/>
            <p:nvPr/>
          </p:nvSpPr>
          <p:spPr>
            <a:xfrm>
              <a:off x="6299280" y="216864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8"/>
            <p:cNvSpPr/>
            <p:nvPr/>
          </p:nvSpPr>
          <p:spPr>
            <a:xfrm>
              <a:off x="5543640" y="2527560"/>
              <a:ext cx="1476360" cy="433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манд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9"/>
            <p:cNvSpPr/>
            <p:nvPr/>
          </p:nvSpPr>
          <p:spPr>
            <a:xfrm>
              <a:off x="6262560" y="20955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Text Box 10"/>
            <p:cNvSpPr/>
            <p:nvPr/>
          </p:nvSpPr>
          <p:spPr>
            <a:xfrm>
              <a:off x="7343640" y="1411560"/>
              <a:ext cx="8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>
              <a:off x="6299280" y="2960640"/>
              <a:ext cx="0" cy="72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15"/>
            <p:cNvSpPr/>
            <p:nvPr/>
          </p:nvSpPr>
          <p:spPr>
            <a:xfrm>
              <a:off x="6299280" y="1757520"/>
              <a:ext cx="1728720" cy="14763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AutoShape 20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21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22">
            <a:hlinkClick r:id="rId1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23" descr="Рисунок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29E3-DC3E-4650-9A35-B55F58C1A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560" y="7920"/>
            <a:ext cx="878508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 задачи с кратким ветвлением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324000" y="692280"/>
            <a:ext cx="853272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бот находится перед коридором неизвестной длины, у которого одна стена сплошная, а другая имеет проходы. Составить программу, после выполнения которой Робот посадит цветы в грядки возле прохо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6" descr="Рисунок35"/>
          <p:cNvPicPr/>
          <p:nvPr/>
        </p:nvPicPr>
        <p:blipFill>
          <a:blip r:embed="rId1"/>
          <a:stretch/>
        </p:blipFill>
        <p:spPr>
          <a:xfrm>
            <a:off x="3846600" y="1989000"/>
            <a:ext cx="5010120" cy="251316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11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12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3">
            <a:hlinkClick r:id="rId2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14" descr="Рисунок1"/>
          <p:cNvPicPr/>
          <p:nvPr/>
        </p:nvPicPr>
        <p:blipFill>
          <a:blip r:embed="rId3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376" name="Text Box 15"/>
          <p:cNvSpPr/>
          <p:nvPr/>
        </p:nvSpPr>
        <p:spPr>
          <a:xfrm>
            <a:off x="324000" y="1952640"/>
            <a:ext cx="3348000" cy="309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Клумбы_выб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2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пока ( не</a:t>
            </a:r>
            <a:r>
              <a:rPr b="1" lang="ru-RU" sz="1400" spc="-1" strike="noStrike">
                <a:solidFill>
                  <a:srgbClr val="ff33cc"/>
                </a:solidFill>
                <a:latin typeface="Courier New"/>
              </a:rPr>
              <a:t> справа_свободн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если ( </a:t>
            </a:r>
            <a:r>
              <a:rPr b="1" lang="ru-RU" sz="1400" spc="-1" strike="noStrike">
                <a:solidFill>
                  <a:srgbClr val="ff33cc"/>
                </a:solidFill>
                <a:latin typeface="Courier New"/>
              </a:rPr>
              <a:t>слева_свободн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{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185A-D8A2-421E-852F-F961E5F7E3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2560" y="7920"/>
            <a:ext cx="878508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 задачи с полным ветвлением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324000" y="692280"/>
            <a:ext cx="853272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бот должен посадить цветы во всех клетках вдоль стены, а если в стене проход, то посадить в нем. Составить программу, после выполнения которой Робот посадит цветы в нужные грядки и придет на Баз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8" descr="Рисунок37"/>
          <p:cNvPicPr/>
          <p:nvPr/>
        </p:nvPicPr>
        <p:blipFill>
          <a:blip r:embed="rId1"/>
          <a:stretch/>
        </p:blipFill>
        <p:spPr>
          <a:xfrm>
            <a:off x="3743280" y="1916280"/>
            <a:ext cx="5111640" cy="23716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12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13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14"/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15" descr="Рисунок1"/>
          <p:cNvPicPr/>
          <p:nvPr/>
        </p:nvPicPr>
        <p:blipFill>
          <a:blip r:embed="rId2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386" name="Text Box 16"/>
          <p:cNvSpPr/>
          <p:nvPr/>
        </p:nvSpPr>
        <p:spPr>
          <a:xfrm>
            <a:off x="358920" y="1881360"/>
            <a:ext cx="3168360" cy="44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Клумбы_выбор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пра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пока ( </a:t>
            </a:r>
            <a:r>
              <a:rPr b="1" lang="ru-RU" sz="1400" spc="-1" strike="noStrike">
                <a:solidFill>
                  <a:srgbClr val="ff33cc"/>
                </a:solidFill>
                <a:latin typeface="Courier New"/>
              </a:rPr>
              <a:t>впереди_свободн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если ( </a:t>
            </a:r>
            <a:r>
              <a:rPr b="1" lang="ru-RU" sz="1400" spc="-1" strike="noStrike">
                <a:solidFill>
                  <a:srgbClr val="ff33cc"/>
                </a:solidFill>
                <a:latin typeface="Courier New"/>
              </a:rPr>
              <a:t>слева_свободн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{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ле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за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пра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инач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{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пра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 вперед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F95B-6AB1-4DE1-96A4-6BF97E2F59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8920" y="-27000"/>
            <a:ext cx="88218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ктическая работа</a:t>
            </a:r>
            <a:r>
              <a:rPr b="1" lang="ru-RU" sz="3200" spc="-1" strike="noStrike">
                <a:solidFill>
                  <a:srgbClr val="29297b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000" spc="-1" strike="noStrike">
                <a:solidFill>
                  <a:srgbClr val="29297b"/>
                </a:solidFill>
                <a:latin typeface="Arial"/>
              </a:rPr>
              <a:t>(РТ №35 стр. 109, учебник №16 стр.151)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287280" y="944640"/>
            <a:ext cx="84978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ишите программу, с помощью которой Робот сможет пройти по извилистому коридору. Коридор имеет ширину в одну клетку и идет в направлении слева-снизу вправо-вверх. Пример возможного коридор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4" descr="Рисунок39"/>
          <p:cNvPicPr/>
          <p:nvPr/>
        </p:nvPicPr>
        <p:blipFill>
          <a:blip r:embed="rId1"/>
          <a:stretch/>
        </p:blipFill>
        <p:spPr>
          <a:xfrm>
            <a:off x="5003640" y="1952640"/>
            <a:ext cx="3853080" cy="385272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9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10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11"/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12" descr="Рисунок1"/>
          <p:cNvPicPr/>
          <p:nvPr/>
        </p:nvPicPr>
        <p:blipFill>
          <a:blip r:embed="rId2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396" name="Text Box 13"/>
          <p:cNvSpPr/>
          <p:nvPr/>
        </p:nvSpPr>
        <p:spPr>
          <a:xfrm>
            <a:off x="250920" y="1952640"/>
            <a:ext cx="4645080" cy="36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РТ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пока ( </a:t>
            </a:r>
            <a:r>
              <a:rPr b="1" lang="ru-RU" sz="1300" spc="-1" strike="noStrike">
                <a:solidFill>
                  <a:srgbClr val="ff33cc"/>
                </a:solidFill>
                <a:latin typeface="Courier New"/>
              </a:rPr>
              <a:t>слева_свободно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или </a:t>
            </a:r>
            <a:r>
              <a:rPr b="1" lang="ru-RU" sz="1300" spc="-1" strike="noStrike">
                <a:solidFill>
                  <a:srgbClr val="ff33cc"/>
                </a:solidFill>
                <a:latin typeface="Courier New"/>
              </a:rPr>
              <a:t>впереди_свободно 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)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если ( </a:t>
            </a:r>
            <a:r>
              <a:rPr b="1" lang="ru-RU" sz="1300" spc="-1" strike="noStrike">
                <a:solidFill>
                  <a:srgbClr val="ff33cc"/>
                </a:solidFill>
                <a:latin typeface="Courier New"/>
              </a:rPr>
              <a:t>слева_свободно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      </a:t>
            </a:r>
            <a:r>
              <a:rPr b="1" lang="en-US" sz="13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     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налево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;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3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);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направо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      </a:t>
            </a:r>
            <a:r>
              <a:rPr b="1" lang="en-US" sz="13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иначе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      </a:t>
            </a:r>
            <a:r>
              <a:rPr b="1" lang="en-US" sz="13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ru-RU" sz="13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( </a:t>
            </a:r>
            <a:r>
              <a:rPr b="1" lang="ru-RU" sz="13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)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      </a:t>
            </a:r>
            <a:r>
              <a:rPr b="1" lang="en-US" sz="13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DBB0-B7EA-407C-8E99-2B2639C513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8920" y="7560"/>
            <a:ext cx="8821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r>
              <a:rPr b="1" lang="ru-RU" sz="3200" spc="-1" strike="noStrike">
                <a:solidFill>
                  <a:srgbClr val="29297b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684360" y="728640"/>
            <a:ext cx="781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3 стр. 145-1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Т № 36, 37, 38 стр. 110-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ться к контрольной рабо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13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14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16" descr="Рисунок1"/>
          <p:cNvPicPr/>
          <p:nvPr/>
        </p:nvPicPr>
        <p:blipFill>
          <a:blip r:embed="rId1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C04B-4BCD-4B48-A591-23D5E48FC2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78920" y="7920"/>
            <a:ext cx="88218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полнительное домашнее задание</a:t>
            </a:r>
            <a:r>
              <a:rPr b="1" lang="ru-RU" sz="3200" spc="-1" strike="noStrike">
                <a:solidFill>
                  <a:srgbClr val="29297b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000" spc="-1" strike="noStrike">
                <a:solidFill>
                  <a:srgbClr val="29297b"/>
                </a:solidFill>
                <a:latin typeface="Arial"/>
              </a:rPr>
              <a:t>(РТ №34 стр. 108, учебник №15 стр.151)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468360" y="1089000"/>
            <a:ext cx="817236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ишите программу, с помощью которой Робот сможет попасть на Базу во всех трех лабиринт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Picture 7" descr="Рисунок41"/>
          <p:cNvPicPr/>
          <p:nvPr/>
        </p:nvPicPr>
        <p:blipFill>
          <a:blip r:embed="rId1"/>
          <a:stretch/>
        </p:blipFill>
        <p:spPr>
          <a:xfrm>
            <a:off x="503280" y="2124000"/>
            <a:ext cx="1684440" cy="2340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Рисунок42"/>
          <p:cNvPicPr/>
          <p:nvPr/>
        </p:nvPicPr>
        <p:blipFill>
          <a:blip r:embed="rId2"/>
          <a:stretch/>
        </p:blipFill>
        <p:spPr>
          <a:xfrm>
            <a:off x="2592360" y="2160720"/>
            <a:ext cx="3005280" cy="13348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Рисунок43"/>
          <p:cNvPicPr/>
          <p:nvPr/>
        </p:nvPicPr>
        <p:blipFill>
          <a:blip r:embed="rId3"/>
          <a:stretch/>
        </p:blipFill>
        <p:spPr>
          <a:xfrm>
            <a:off x="5940360" y="2160720"/>
            <a:ext cx="2644920" cy="263664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13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14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15"/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16" descr="Рисунок1"/>
          <p:cNvPicPr/>
          <p:nvPr/>
        </p:nvPicPr>
        <p:blipFill>
          <a:blip r:embed="rId4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Нижний колонтитул 1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5C93-69D9-435C-B443-D62614074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WordArt 5"/>
          <p:cNvSpPr txBox="1"/>
          <p:nvPr/>
        </p:nvSpPr>
        <p:spPr>
          <a:xfrm>
            <a:off x="2050920" y="2492280"/>
            <a:ext cx="4892760" cy="155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19" name="AutoShape 9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10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11"/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12" descr="Рисунок1"/>
          <p:cNvPicPr/>
          <p:nvPr/>
        </p:nvPicPr>
        <p:blipFill>
          <a:blip r:embed="rId1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ижний колонтитул 1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356A-40B5-4ED3-A773-3DC9D53C07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1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39D7-9929-4FD4-9CD4-AEB289025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03280" y="728640"/>
            <a:ext cx="8101080" cy="496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нитель – это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– это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– это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исполнителя Чертёжника по план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И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2) Круг решаемых задач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3) Сред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4) С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5) Система отказ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6) Режимы раб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179280" y="0"/>
            <a:ext cx="8785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вайте вспомн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2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3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4">
            <a:hlinkClick r:id="rId1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5" descr="Рисунок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5355-F4DF-4AF5-B06D-8E61B4C1A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560" y="7560"/>
            <a:ext cx="87850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а «Исполнители»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AutoShape 13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4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5">
            <a:hlinkClick r:id="rId1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8" descr="Рисунок1"/>
          <p:cNvPicPr/>
          <p:nvPr/>
        </p:nvPicPr>
        <p:blipFill>
          <a:blip r:embed="rId2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grpSp>
        <p:nvGrpSpPr>
          <p:cNvPr id="71" name="Group 28"/>
          <p:cNvGrpSpPr/>
          <p:nvPr/>
        </p:nvGrpSpPr>
        <p:grpSpPr>
          <a:xfrm>
            <a:off x="971640" y="584280"/>
            <a:ext cx="7380360" cy="5437080"/>
            <a:chOff x="971640" y="584280"/>
            <a:chExt cx="7380360" cy="5437080"/>
          </a:xfrm>
        </p:grpSpPr>
        <p:pic>
          <p:nvPicPr>
            <p:cNvPr id="72" name="Picture 6" descr="Рисунок2"/>
            <p:cNvPicPr/>
            <p:nvPr/>
          </p:nvPicPr>
          <p:blipFill>
            <a:blip r:embed="rId3"/>
            <a:stretch/>
          </p:blipFill>
          <p:spPr>
            <a:xfrm>
              <a:off x="971640" y="655560"/>
              <a:ext cx="7080120" cy="53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AutoShape 9"/>
            <p:cNvSpPr/>
            <p:nvPr/>
          </p:nvSpPr>
          <p:spPr>
            <a:xfrm>
              <a:off x="1511280" y="2563920"/>
              <a:ext cx="1908360" cy="610920"/>
            </a:xfrm>
            <a:prstGeom prst="wedgeRoundRectCallout">
              <a:avLst>
                <a:gd name="adj1" fmla="val -64143"/>
                <a:gd name="adj2" fmla="val -90777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кно редактора программ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9"/>
            <p:cNvSpPr/>
            <p:nvPr/>
          </p:nvSpPr>
          <p:spPr>
            <a:xfrm>
              <a:off x="4788000" y="5013360"/>
              <a:ext cx="1620720" cy="612720"/>
            </a:xfrm>
            <a:prstGeom prst="wedgeRoundRectCallout">
              <a:avLst>
                <a:gd name="adj1" fmla="val 87805"/>
                <a:gd name="adj2" fmla="val -57773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ле Исполнител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utoShape 9"/>
            <p:cNvSpPr/>
            <p:nvPr/>
          </p:nvSpPr>
          <p:spPr>
            <a:xfrm>
              <a:off x="6948360" y="2816280"/>
              <a:ext cx="1403640" cy="612720"/>
            </a:xfrm>
            <a:prstGeom prst="wedgeRoundRectCallout">
              <a:avLst>
                <a:gd name="adj1" fmla="val -64819"/>
                <a:gd name="adj2" fmla="val -106476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адача для Робо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utoShape 9"/>
            <p:cNvSpPr/>
            <p:nvPr/>
          </p:nvSpPr>
          <p:spPr>
            <a:xfrm>
              <a:off x="2592360" y="584280"/>
              <a:ext cx="1513080" cy="323640"/>
            </a:xfrm>
            <a:prstGeom prst="wedgeRoundRectCallout">
              <a:avLst>
                <a:gd name="adj1" fmla="val 48004"/>
                <a:gd name="adj2" fmla="val 117648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ежим Робо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9"/>
            <p:cNvSpPr/>
            <p:nvPr/>
          </p:nvSpPr>
          <p:spPr>
            <a:xfrm>
              <a:off x="4211640" y="584280"/>
              <a:ext cx="2808360" cy="360360"/>
            </a:xfrm>
            <a:prstGeom prst="wedgeRoundRectCallout">
              <a:avLst>
                <a:gd name="adj1" fmla="val -44912"/>
                <a:gd name="adj2" fmla="val 105504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агрузить задачу для Робо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AutoShape 9"/>
            <p:cNvSpPr/>
            <p:nvPr/>
          </p:nvSpPr>
          <p:spPr>
            <a:xfrm>
              <a:off x="4464000" y="1592280"/>
              <a:ext cx="2340000" cy="289080"/>
            </a:xfrm>
            <a:prstGeom prst="wedgeRoundRectCallout">
              <a:avLst>
                <a:gd name="adj1" fmla="val -43148"/>
                <a:gd name="adj2" fmla="val -16703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осстановить лабирин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CBAC-08CE-42AB-916D-7E38BBB59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7560"/>
            <a:ext cx="87850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а Робота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2" name="Group 18"/>
          <p:cNvGrpSpPr/>
          <p:nvPr/>
        </p:nvGrpSpPr>
        <p:grpSpPr>
          <a:xfrm>
            <a:off x="1332000" y="3213000"/>
            <a:ext cx="5246640" cy="2691000"/>
            <a:chOff x="1332000" y="3213000"/>
            <a:chExt cx="5246640" cy="2691000"/>
          </a:xfrm>
        </p:grpSpPr>
        <p:pic>
          <p:nvPicPr>
            <p:cNvPr id="83" name="Picture 10" descr=""/>
            <p:cNvPicPr/>
            <p:nvPr/>
          </p:nvPicPr>
          <p:blipFill>
            <a:blip r:embed="rId1"/>
            <a:stretch/>
          </p:blipFill>
          <p:spPr>
            <a:xfrm>
              <a:off x="3132360" y="3213000"/>
              <a:ext cx="2678040" cy="26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AutoShape 12"/>
            <p:cNvSpPr/>
            <p:nvPr/>
          </p:nvSpPr>
          <p:spPr>
            <a:xfrm>
              <a:off x="2016360" y="3681360"/>
              <a:ext cx="961920" cy="277920"/>
            </a:xfrm>
            <a:prstGeom prst="wedgeRoundRectCallout">
              <a:avLst>
                <a:gd name="adj1" fmla="val 74587"/>
                <a:gd name="adj2" fmla="val 121430"/>
                <a:gd name="adj3" fmla="val 16667"/>
              </a:avLst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обо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AutoShape 13"/>
            <p:cNvSpPr/>
            <p:nvPr/>
          </p:nvSpPr>
          <p:spPr>
            <a:xfrm>
              <a:off x="1981080" y="4905360"/>
              <a:ext cx="960480" cy="277920"/>
            </a:xfrm>
            <a:prstGeom prst="wedgeRoundRectCallout">
              <a:avLst>
                <a:gd name="adj1" fmla="val 172481"/>
                <a:gd name="adj2" fmla="val -164287"/>
                <a:gd name="adj3" fmla="val 16667"/>
              </a:avLst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те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AutoShape 14"/>
            <p:cNvSpPr/>
            <p:nvPr/>
          </p:nvSpPr>
          <p:spPr>
            <a:xfrm>
              <a:off x="5581800" y="3249720"/>
              <a:ext cx="961920" cy="277920"/>
            </a:xfrm>
            <a:prstGeom prst="wedgeRoundRectCallout">
              <a:avLst>
                <a:gd name="adj1" fmla="val -81023"/>
                <a:gd name="adj2" fmla="val 124856"/>
                <a:gd name="adj3" fmla="val 16667"/>
              </a:avLst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лумб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AutoShape 15"/>
            <p:cNvSpPr/>
            <p:nvPr/>
          </p:nvSpPr>
          <p:spPr>
            <a:xfrm>
              <a:off x="5616720" y="4076640"/>
              <a:ext cx="961920" cy="277920"/>
            </a:xfrm>
            <a:prstGeom prst="wedgeRoundRectCallout">
              <a:avLst>
                <a:gd name="adj1" fmla="val -126236"/>
                <a:gd name="adj2" fmla="val 118000"/>
                <a:gd name="adj3" fmla="val 16667"/>
              </a:avLst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гряд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AutoShape 16"/>
            <p:cNvSpPr/>
            <p:nvPr/>
          </p:nvSpPr>
          <p:spPr>
            <a:xfrm>
              <a:off x="5616720" y="4797360"/>
              <a:ext cx="961920" cy="276480"/>
            </a:xfrm>
            <a:prstGeom prst="wedgeRoundRectCallout">
              <a:avLst>
                <a:gd name="adj1" fmla="val -80199"/>
                <a:gd name="adj2" fmla="val 116666"/>
                <a:gd name="adj3" fmla="val 16667"/>
              </a:avLst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Баз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17"/>
            <p:cNvSpPr/>
            <p:nvPr/>
          </p:nvSpPr>
          <p:spPr>
            <a:xfrm>
              <a:off x="1332000" y="5626080"/>
              <a:ext cx="1609560" cy="277920"/>
            </a:xfrm>
            <a:prstGeom prst="wedgeRoundRectCallout">
              <a:avLst>
                <a:gd name="adj1" fmla="val 75347"/>
                <a:gd name="adj2" fmla="val -157430"/>
                <a:gd name="adj3" fmla="val 16667"/>
              </a:avLst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вободное мест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Text Box 28"/>
          <p:cNvSpPr/>
          <p:nvPr/>
        </p:nvSpPr>
        <p:spPr>
          <a:xfrm>
            <a:off x="395280" y="620640"/>
            <a:ext cx="849780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обот выполняет специальную задачу - сажает цветы в грядки на поле (лабиринте). </a:t>
            </a:r>
            <a:br>
              <a:rPr sz="1400"/>
            </a:b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оле размечено на квадраты, каждый из которых может быть: </a:t>
            </a:r>
            <a:br>
              <a:rPr sz="1400"/>
            </a:b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) свободным местом; </a:t>
            </a:r>
            <a:br>
              <a:rPr sz="1400"/>
            </a:b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2) грядкой; </a:t>
            </a:r>
            <a:br>
              <a:rPr sz="1400"/>
            </a:b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3) клумбой с цветами; </a:t>
            </a:r>
            <a:br>
              <a:rPr sz="1400"/>
            </a:b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3) стенкой 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обот может переходить из клетки в клетку по грядкам или по свободным клетк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обот не может проходить через стенки, ходить по клумбам с цветами, выходить за границы поля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обот должен посадить цветы на всех грядках и вернуться на Базу для пополнения запасов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2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33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34">
            <a:hlinkClick r:id="rId2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5" descr="Рисунок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4C1D-9A79-4093-AD68-E71A8EBE1A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7560"/>
            <a:ext cx="878544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КИ Робота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24000" y="692280"/>
            <a:ext cx="8604000" cy="40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коман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прав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вернуться на 90 градусов впра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лев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вернуться на 90 градусов вле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уго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вернуться кругом (на 180 градус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перед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(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);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йти на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леток впере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зад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(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);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йти на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леток 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сад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адить цветы на грядке, где стоит Ро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9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0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1">
            <a:hlinkClick r:id="rId1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2" descr="Рисунок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3587-3918-4E73-B483-7270230064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7920"/>
            <a:ext cx="8785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 простой задачи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Рисунок4"/>
          <p:cNvPicPr/>
          <p:nvPr/>
        </p:nvPicPr>
        <p:blipFill>
          <a:blip r:embed="rId1"/>
          <a:stretch/>
        </p:blipFill>
        <p:spPr>
          <a:xfrm>
            <a:off x="4392720" y="692280"/>
            <a:ext cx="3071880" cy="40780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2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3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4">
            <a:hlinkClick r:id="rId2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" descr="Рисунок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  <p:sp>
        <p:nvSpPr>
          <p:cNvPr id="112" name="Text Box 16"/>
          <p:cNvSpPr/>
          <p:nvPr/>
        </p:nvSpPr>
        <p:spPr>
          <a:xfrm>
            <a:off x="1258920" y="692280"/>
            <a:ext cx="2556000" cy="430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Задача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3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ле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зад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2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пра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2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пра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2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посади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2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направо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ourier New"/>
              </a:rPr>
              <a:t>вперед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( </a:t>
            </a:r>
            <a:r>
              <a:rPr b="1" lang="ru-RU" sz="1400" spc="-1" strike="noStrike">
                <a:solidFill>
                  <a:srgbClr val="0000cc"/>
                </a:solidFill>
                <a:latin typeface="Courier New"/>
              </a:rPr>
              <a:t>1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);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2"/>
          <p:cNvSpPr/>
          <p:nvPr/>
        </p:nvSpPr>
        <p:spPr>
          <a:xfrm>
            <a:off x="16344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.В.Чайченков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C30A-44D2-4FB5-B094-0709610625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7560"/>
            <a:ext cx="878544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можные ошибки Робота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31640" y="728640"/>
            <a:ext cx="82807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Синтаксические (“НЕ ПОНИМАЮ”)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– появляются при ошибках в написании команд, например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ево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пер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( 3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право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 2 )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Отказы (“НЕ МОГУ”)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появляются, например, если Роботу дают команду идти прямо на стенку или сажать цветы там, где нет гряд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 Логические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возникают тогда, когда Робот понимает команды и выполняет их, но результат не тот, какой нуже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9">
            <a:hlinkClick r:id="" action="ppaction://hlinkshowjump?jump=nextslide"/>
          </p:cNvPr>
          <p:cNvSpPr/>
          <p:nvPr/>
        </p:nvSpPr>
        <p:spPr>
          <a:xfrm>
            <a:off x="8424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0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>
            <a:hlinkClick r:id="rId1" action="ppaction://hlinksldjump"/>
          </p:cNvPr>
          <p:cNvSpPr/>
          <p:nvPr/>
        </p:nvSpPr>
        <p:spPr>
          <a:xfrm>
            <a:off x="76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2" descr="Рисунок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01080" y="6237360"/>
            <a:ext cx="360360" cy="36036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p</cp:lastModifiedBy>
  <dcterms:modified xsi:type="dcterms:W3CDTF">2012-12-03T17:07:5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